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1BC-8A8D-415A-BF4B-F1E7EC6E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30A-BC0C-4F6F-8DF4-7742B87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D24-9328-43E0-91DF-1A16E295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53E-1C15-433F-8E5F-8FE79F3B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2D99-1136-4018-96FB-B7DA6D30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206-7E3B-4426-9998-06E9213F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B069-BD5E-42C3-BAD8-B47AE868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9958-7335-43AC-8C3C-3708BA6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F1A-9E12-4573-B365-71718FF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FA4C-25C5-41AF-BA0B-C3A293DA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428-DCBE-45C3-B97F-051C3DF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909-A781-40B9-82B9-EE2E3014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21E9-EDAA-495C-B16F-9018AE60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D06E-EFF0-476B-9DB5-41DD513B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E311-4748-42B5-A692-1E631454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5C8-AF4E-4B75-A85E-887091E2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DF4C-BB72-4A7C-A9E2-D371B39A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352B-93BD-4261-B9B8-FC81C9B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A707-F399-42B7-BC00-08A04BB7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4D24-29E4-4EB8-AF8D-188A321A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8FFE-67A6-4486-896A-5B92B170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2E53-A88F-4533-8E66-7F1AB17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0EC-6AAC-4F64-B383-CD03CB6A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BF65-8114-4A3E-9ED5-E8C5AF6D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50464-5996-45D4-ACCE-F2414DF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6767-F434-4262-85A2-B609429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CE8F-FDF0-401E-9C46-D17C25A5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BF96-3C94-4E12-B84D-708D229A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4D1C-7EBD-471E-97DB-31C4D0C3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72F3-9CD8-4572-B915-EFBE07C5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7F79-6AEC-4BD7-BEE6-13BB2560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5EE5-0ED5-4338-A047-90940C5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C91C-035F-43F3-9D06-505D706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31E-5701-4206-AE46-E501B65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8E6A-B860-411D-855F-538A0555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ABFD-C41C-4130-BC51-F75A3FCD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3B8E-7C0E-40CC-867E-4493245B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763D-D132-4F83-9E9B-512B54E0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F5606-2196-41C6-8C0A-3E3E4B5F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8804A-627F-4CC4-AB7C-B7CA34D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E7AC2-5500-4D7F-A9B0-2BC25547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B7D2-86CF-403B-A153-47FDA7B8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0FCA7-D85F-4ABB-A801-B0333C7E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907C-0CD7-4249-9A85-E2EB947F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D4A-8CED-4743-ACA5-8580C72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6D66B-504C-4E36-B45E-F3B8A23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6E59D-D743-4198-9287-B2FE518D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9A7C2-DEF6-41E1-AF20-0E94A07A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29099-1699-4F9A-881D-8A437E16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6139F-5405-4E3C-8433-40F7BA47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F0B4-A633-4660-9781-CFD17F9F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1C34-E672-482B-8645-459F20A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452A-1F85-46B3-846E-7A3964E9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9561-EAB3-4608-94FD-7F4D3070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EB9E-C36D-4E0D-BE21-19F7936B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9D7-4D55-4821-95D8-EA5E713F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A6CA4-2D07-472E-B455-4B896628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491A-A5DA-4360-99D1-B55AEB66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563EA-BF54-47A3-B6F4-99C5104C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2D099-3EFD-4F69-98B9-7F832890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3612-38B8-4FE0-ACA3-34FBD4D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2CE8-D8D5-431B-8B98-CBCDDA8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34B27-114C-4725-A970-1CCBAD5B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CF0EB-A735-4263-BD5A-C2F9F10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C8142-BB76-4E78-A56C-74C46F35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3E3F6-AB50-433F-A72E-AAE5D05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A4A9-9BB2-47BF-B244-A68002C1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E838-4F68-4892-8D44-4584C95C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6D88-46AC-4DC4-911B-FDCACFE1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EFE0-2B74-4556-B09D-8F40B4AB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EFF5-DD01-49FB-86EB-9FD68A1E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00A5-21F9-4E40-B9D7-46C03AA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D110-0EBD-467A-948C-CA04E85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A95CA-C663-476B-941D-2A712DD5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AED3B-E83C-4029-8AFA-676D61FF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53506-7700-439E-A141-33E7E8F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19329-D371-4BBD-B9EA-F86CD3C9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777-EBD9-401F-BE08-66B5FB8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3B0DB-419A-40FE-A151-67D1E8A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6EAC-59B4-4B9A-B180-5A8F3D6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F8CB1-2B58-4FF1-985E-C662EAA3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623A0-E446-444B-A854-4CBE948E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ED38-F0EB-4B05-BAD9-9B0620C7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2263-8AB8-45D5-9149-E7D7ADC7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0FAF-0A7E-4B2C-81CB-46316697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D18D5-BD8A-405D-9D63-9441EA24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CF20F-FF0A-4399-ACCC-00FA1B6B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4379D-6253-4B20-9F2A-A8CF7CD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843-BE17-41D6-BA42-0DFDE73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14F54-04B5-4799-BDE8-85205081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6F39-BA72-430E-BD55-FD329E4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0900E-C6FF-42C3-843E-1D748D5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9836-B70C-4E75-91EE-5670273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F77A-2E20-4B49-A211-CF2EF822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8A563-9C5C-45C2-90AD-1DB22D36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81FF4-93D6-473A-B752-DD6A0CFC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066F-CF3B-4FA6-BABD-A9F56729C207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A58-802B-47B0-84A2-65103403FD85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491-E258-44BA-A9F8-17F4FC9AF7BF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60E-D46D-4C0C-A259-32DB5D291701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B09E-D221-4A42-B961-C9BFEF333277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ED05-B9EB-43DD-9768-9B82E5F13126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FDC3-E7CE-4F31-9780-0F932AA6EC95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337-7C6A-4D2F-A1BC-CF0DE2D322F9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4464000"/>
          </a:xfrm>
          <a:prstGeom prst="rect">
            <a:avLst/>
          </a:prstGeom>
          <a:ln w="0">
            <a:noFill/>
          </a:ln>
        </p:spPr>
      </p:pic>
      <p:pic>
        <p:nvPicPr>
          <p:cNvPr id="371" name="1 Título" descr=""/>
          <p:cNvPicPr/>
          <p:nvPr/>
        </p:nvPicPr>
        <p:blipFill>
          <a:blip r:embed="rId2"/>
          <a:stretch/>
        </p:blipFill>
        <p:spPr>
          <a:xfrm>
            <a:off x="609480" y="1768320"/>
            <a:ext cx="7785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395280" y="333360"/>
            <a:ext cx="8226360" cy="5126040"/>
          </a:xfrm>
          <a:prstGeom prst="rect">
            <a:avLst/>
          </a:prstGeom>
          <a:ln w="0">
            <a:noFill/>
          </a:ln>
        </p:spPr>
      </p:pic>
      <p:pic>
        <p:nvPicPr>
          <p:cNvPr id="373" name="1 Título" descr=""/>
          <p:cNvPicPr/>
          <p:nvPr/>
        </p:nvPicPr>
        <p:blipFill>
          <a:blip r:embed="rId2"/>
          <a:stretch/>
        </p:blipFill>
        <p:spPr>
          <a:xfrm>
            <a:off x="262080" y="1620720"/>
            <a:ext cx="8742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399280"/>
          </a:xfrm>
          <a:prstGeom prst="rect">
            <a:avLst/>
          </a:prstGeom>
          <a:ln w="0">
            <a:noFill/>
          </a:ln>
        </p:spPr>
      </p:pic>
      <p:sp>
        <p:nvSpPr>
          <p:cNvPr id="375" name="2 CuadroTexto"/>
          <p:cNvSpPr/>
          <p:nvPr/>
        </p:nvSpPr>
        <p:spPr>
          <a:xfrm>
            <a:off x="611280" y="256536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Generar convenios entre el sector educativo, de salud, organizaciones no gubernamentales y ambientales. (202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venios generad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2. Crear grupo de trabajo multidisciplinario.(2018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Grupo de trabajo conform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3 CuadroTexto"/>
          <p:cNvSpPr/>
          <p:nvPr/>
        </p:nvSpPr>
        <p:spPr>
          <a:xfrm>
            <a:off x="468360" y="333360"/>
            <a:ext cx="799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Contar con un programa de educación ambiental para concientizar y sensibilizar a estudiantes sobre la contaminación del aire y sus impactos a la salud y el medio ambi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504720"/>
            <a:ext cx="7848360" cy="5372280"/>
          </a:xfrm>
          <a:prstGeom prst="rect">
            <a:avLst/>
          </a:prstGeom>
          <a:ln w="0">
            <a:noFill/>
          </a:ln>
        </p:spPr>
      </p:pic>
      <p:sp>
        <p:nvSpPr>
          <p:cNvPr id="378" name="2 CuadroTexto"/>
          <p:cNvSpPr/>
          <p:nvPr/>
        </p:nvSpPr>
        <p:spPr>
          <a:xfrm>
            <a:off x="611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3. Diseñar el material didáctico en el tema de calidad del aire. (2018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 didáctico, educativo y/o informativo en el tema de la calidad del aire diseñ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4. Diseñar e implementar un programa de educación ambiental en el tema de la calidad del aire y sus impactos a la salud. (2018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 de educación ambiental implement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5:04:52Z</dcterms:created>
  <dc:creator>Impacto</dc:creator>
  <dc:description/>
  <dc:language>en-US</dc:language>
  <cp:lastModifiedBy>Impacto</cp:lastModifiedBy>
  <dcterms:modified xsi:type="dcterms:W3CDTF">2019-12-04T15:58:22Z</dcterms:modified>
  <cp:revision>2</cp:revision>
  <dc:subject/>
  <dc:title>5. Comunicación y Educación Ambiental.</dc:title>
</cp:coreProperties>
</file>